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91D8E-A868-4700-B8A7-7A65AE825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8596E-542D-4C4D-9C55-26B5BD775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BF42A-C5B6-4E0C-B338-FDC7BDF81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5B572-130A-4B10-8D2C-F364FAED0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C2826-FE00-4233-8713-4A18E2F36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D4E9A-66B3-4F51-8D96-98C5A7151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60170-06DD-4014-9970-A7D549535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38CBC-59F9-45FF-BCDC-1DBCB95AE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11656-B34F-42E3-92B0-5D56538AB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F0399-5FE1-446A-ADB4-9CD85AE00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2776D-E0D3-479E-8EC7-D3F7FCC99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9DE6A-689C-4A91-88C4-92589ED98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D8B50-3C9F-4137-8EB3-2DCB1BF9F7F0}" type="slidenum">
              <a:rPr b="0" lang="tr-T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hyperlink" Target="http://www.ihbarweb.org.tr/" TargetMode="Externa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hyperlink" Target="http://dogancio.meb.k12.tr/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ff"/>
                </a:solidFill>
                <a:latin typeface="Arial"/>
              </a:rPr>
              <a:t>İNTERNET NEDİ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179280" y="2133720"/>
            <a:ext cx="770580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Bilgisayarınızın, dünya üzerindeki birbiriyle bağlantılı milyonlarca bilgisayardan herhangi birisiyle veri, ileti ve dosya alış verişi yapmanıza olanak sağlayan, bilgisayarlar sistemidir. Kısaca dünya üzerindeki bilgisayar ağı olarak tanımlanmaktadır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7"/>
          <p:cNvSpPr/>
          <p:nvPr/>
        </p:nvSpPr>
        <p:spPr>
          <a:xfrm>
            <a:off x="179280" y="4581360"/>
            <a:ext cx="896472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Çağımızın en güçlü kitle iletişim kaynaklarından biri olan bilgisayarlar ve yaşamımıza birden bire giren internet, bugün bilgilenme, işlem yürütme, haberleşme, eğitim ve eğlence fonksiyonlarıyla hayatımızın ayrılmaz bir parçası olmuştur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ffffff"/>
                </a:solidFill>
                <a:latin typeface="Arial"/>
              </a:rPr>
              <a:t>ARKADAŞINIZI SİZ BELİRLEYİ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-360" y="2332080"/>
            <a:ext cx="7000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İnternet ortamında sadece tanıdığınız kişilerle sohbet edin ve iletişin kurun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Tanımadığınız kişilerin internetten yaptığı arkadaşlık tekliflerini reddedin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İnternet sitelerinde yer alan oyunlara, aktivitelere, yarışmalara katılmadan önce mutlaka ailenize ve öğretmenlerinize danışın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İnternette tanıştığınız yabancılarla ailenizin bilgisi olmadan yüz yüze görüşmeyin, buluşmayın!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"/>
          <p:cNvPicPr/>
          <p:nvPr/>
        </p:nvPicPr>
        <p:blipFill>
          <a:blip r:embed="rId1"/>
          <a:stretch/>
        </p:blipFill>
        <p:spPr>
          <a:xfrm>
            <a:off x="6858000" y="2928960"/>
            <a:ext cx="2071800" cy="203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500" spc="-1" strike="noStrike">
                <a:solidFill>
                  <a:srgbClr val="ffffff"/>
                </a:solidFill>
                <a:latin typeface="Arial"/>
              </a:rPr>
              <a:t>KİMLİĞİNİZİ VE KİŞİLİĞİNİZİ KORUYUN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13840" y="2000160"/>
            <a:ext cx="6186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TC Kimlik numaranızı, adresinizi, telefonunuzu, okulunuzun adı, anne, babanızın iş adreslerini ve iş telefonlarını yabancılarla paylaşmayın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İnternet üstünden kendi ve ailenizin resimlerini, video görüntülerini yabancılara göndermeyin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Yabancılarla web kamera kullanarak konuşmayın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Nasıl ki evimize yabancı birisini alıp, paylaşmıyorsak internetin bu yapmasına müsaade etmeyin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"/>
          <p:cNvPicPr/>
          <p:nvPr/>
        </p:nvPicPr>
        <p:blipFill>
          <a:blip r:embed="rId1"/>
          <a:stretch/>
        </p:blipFill>
        <p:spPr>
          <a:xfrm>
            <a:off x="6699240" y="2357280"/>
            <a:ext cx="244476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500" spc="-1" strike="noStrike">
                <a:solidFill>
                  <a:srgbClr val="ffffff"/>
                </a:solidFill>
                <a:latin typeface="Arial"/>
              </a:rPr>
              <a:t>HAYIR DEME HAKINIZI VE </a:t>
            </a:r>
            <a:br>
              <a:rPr sz="3500"/>
            </a:br>
            <a:r>
              <a:rPr b="1" lang="tr-TR" sz="3500" spc="-1" strike="noStrike">
                <a:solidFill>
                  <a:srgbClr val="ffffff"/>
                </a:solidFill>
                <a:latin typeface="Arial"/>
              </a:rPr>
              <a:t>ÖZGÜRLÜĞÜNÜZÜ KULLANIN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999800"/>
            <a:ext cx="7358040" cy="20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İnternette iken sizi rahatsız eden, görüntü, ses ve yazılara rastladığımızda hemen internet kullanımını bırakın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Rahatsız edildiğinizde karşılık vermeyin. Hemen ve hiç çekinmeden ailenize haber verin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"/>
          <p:cNvPicPr/>
          <p:nvPr/>
        </p:nvPicPr>
        <p:blipFill>
          <a:blip r:embed="rId1"/>
          <a:stretch/>
        </p:blipFill>
        <p:spPr>
          <a:xfrm>
            <a:off x="7311960" y="2286000"/>
            <a:ext cx="1832040" cy="1785960"/>
          </a:xfrm>
          <a:prstGeom prst="rect">
            <a:avLst/>
          </a:prstGeom>
          <a:ln w="0">
            <a:noFill/>
          </a:ln>
        </p:spPr>
      </p:pic>
      <p:sp>
        <p:nvSpPr>
          <p:cNvPr id="76" name="6 Metin kutusu"/>
          <p:cNvSpPr/>
          <p:nvPr/>
        </p:nvSpPr>
        <p:spPr>
          <a:xfrm>
            <a:off x="214200" y="4286160"/>
            <a:ext cx="8715600" cy="22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Zararlı ve rahatsız edici internet sitelerini </a:t>
            </a:r>
            <a:r>
              <a:rPr b="0" lang="tr-TR" sz="3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ihbarweb.org.tr</a:t>
            </a: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  adresine yada </a:t>
            </a:r>
            <a:r>
              <a:rPr b="1" lang="tr-TR" sz="2500" spc="-1" strike="noStrike">
                <a:solidFill>
                  <a:srgbClr val="000000"/>
                </a:solidFill>
                <a:latin typeface="Arial"/>
              </a:rPr>
              <a:t>0312-5828282</a:t>
            </a: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 numaralı telefona hemen şikayet edin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Sizleri rahatsız eden kişilere cevap vermeyin ya da onları yetkililere şikayet ederek cevaplayın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8520" y="7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ffffff"/>
                </a:solidFill>
                <a:latin typeface="Arial"/>
              </a:rPr>
              <a:t>CÜZDANINIZI HIRSIZLARDAN KORUYU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0" y="2000160"/>
            <a:ext cx="6143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Anne ve babanızdan izin almadan yada onlar yanınızda olmadan internetten alışveriş yapmayı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Unutmayın, internette kredi kartı bilgilerini karşı tarafa vermek, cüzdanınızı tanımadığınız bir kişiye emanet etmek gibidi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"/>
          <p:cNvPicPr/>
          <p:nvPr/>
        </p:nvPicPr>
        <p:blipFill>
          <a:blip r:embed="rId1"/>
          <a:stretch/>
        </p:blipFill>
        <p:spPr>
          <a:xfrm>
            <a:off x="6286680" y="2643120"/>
            <a:ext cx="2476440" cy="24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14200" y="7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ff"/>
                </a:solidFill>
                <a:latin typeface="Arial"/>
              </a:rPr>
              <a:t>E-POSTALARINIZI KORUYU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0" y="2071800"/>
            <a:ext cx="5929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Şifresi kolay e-posta adresleri güvenli değildir. Bu nedenle e-posta adresiniz için güvenli şifreler oluşturu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İstenmeyen e-postaları önlemek ve gereksiz mesaj trafiği oluşturmamak için internette güvenmediğiniz sitelere kayıt olmayı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"/>
          <p:cNvPicPr/>
          <p:nvPr/>
        </p:nvPicPr>
        <p:blipFill>
          <a:blip r:embed="rId1"/>
          <a:stretch/>
        </p:blipFill>
        <p:spPr>
          <a:xfrm>
            <a:off x="6072120" y="2500200"/>
            <a:ext cx="2676600" cy="26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42920" y="7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ffffff"/>
                </a:solidFill>
                <a:latin typeface="Arial"/>
              </a:rPr>
              <a:t>BİLGİSAYARINIZI VİRÜSLERDEN KORUYU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85840" y="2000160"/>
            <a:ext cx="5757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Virüslü bilgisayar, vücuduna bulaşıcı mikrop girmiş ve grip hastalığına yakalanmış olan insana benze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Virüslü bilgisayar nezle olmuş insan gibi yorgun ve halsiz çalışı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5" descr=""/>
          <p:cNvPicPr/>
          <p:nvPr/>
        </p:nvPicPr>
        <p:blipFill>
          <a:blip r:embed="rId1"/>
          <a:stretch/>
        </p:blipFill>
        <p:spPr>
          <a:xfrm>
            <a:off x="6219720" y="1857240"/>
            <a:ext cx="2924280" cy="28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2"/>
          <p:cNvSpPr/>
          <p:nvPr/>
        </p:nvSpPr>
        <p:spPr>
          <a:xfrm>
            <a:off x="142920" y="71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ffffff"/>
                </a:solidFill>
                <a:latin typeface="Arial"/>
              </a:rPr>
              <a:t>BİLGİSAYARINIZI VİRÜSLERDEN KORUYU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4 Dikdörtgen"/>
          <p:cNvSpPr/>
          <p:nvPr/>
        </p:nvSpPr>
        <p:spPr>
          <a:xfrm>
            <a:off x="357120" y="2052720"/>
            <a:ext cx="835812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Öyley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Bilgisayarınıza mutlaka antivirüs programı kuru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En az haftada bir kez antivirüs programınızı güncelleyiniz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Güvenli olmayan internet sitelerinden dosya, müzik veya film indirmey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Önemli dosyalarınızı mutlaka yedekley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Unutmayın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Bir hastalığın en etkili ilacı o hastalığa yakalanmamak için önceden önlem almaktı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7240" y="7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ffffff"/>
                </a:solidFill>
                <a:latin typeface="Arial"/>
              </a:rPr>
              <a:t>BİLGİLERİNİZİ ÇALMAYA GELEN HIRSIZLARA DİKK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13840" y="1957320"/>
            <a:ext cx="5829480" cy="50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Spam (istenmeyen epostalar) okumamız için başucunuza zarf bırakıp giden maskeli hırsızlara benz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Bu zarfı merak edip açtığınızda ve mektuptaki istekleri yerine getirdiğinizde tüm bilgilerinizi çalmış olabilirl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Bu şekilde gelen istenmeyen e-postaları kabul etmeyin ve hiç okumadan sil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İstemediğiniz halde size ulaşan e-postaları asla arkadaşlarınıza iletmey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" descr=""/>
          <p:cNvPicPr/>
          <p:nvPr/>
        </p:nvPicPr>
        <p:blipFill>
          <a:blip r:embed="rId1"/>
          <a:stretch/>
        </p:blipFill>
        <p:spPr>
          <a:xfrm>
            <a:off x="6248520" y="2143080"/>
            <a:ext cx="2895480" cy="29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240" y="7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ffffff"/>
                </a:solidFill>
                <a:latin typeface="Arial"/>
              </a:rPr>
              <a:t>TRUVA ATI BİLGİSAYARINIZI ESİR ALMAS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-360" y="2071800"/>
            <a:ext cx="7286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Truva atı sinsi bir programdır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Kaleyi içten fethetmek için kılık değiştirerek kaleye girmiş askerlere benzer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Önce kendisini masum bir müzik, film yada oyun dosyası olarak tanıtır, kabul ettiğinizde bilgisayarınızın yönetimini sinsice ele geçirir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500" spc="-1" strike="noStrike">
                <a:solidFill>
                  <a:srgbClr val="000000"/>
                </a:solidFill>
                <a:latin typeface="Arial"/>
              </a:rPr>
              <a:t>O hald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Güvenli olmayan bilmediğiniz internet sitelerine girmeyin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Böyle sitelerden dosya indirmeyin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Haftalık virüs taramanızı ihmal etmeyin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"/>
          <p:cNvPicPr/>
          <p:nvPr/>
        </p:nvPicPr>
        <p:blipFill>
          <a:blip r:embed="rId1"/>
          <a:stretch/>
        </p:blipFill>
        <p:spPr>
          <a:xfrm>
            <a:off x="6835680" y="1643040"/>
            <a:ext cx="2308320" cy="23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6880" y="-71640"/>
            <a:ext cx="9086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ffffff"/>
                </a:solidFill>
                <a:latin typeface="Arial"/>
              </a:rPr>
              <a:t>HIRSIZ VE YANKESİCİLERE DİKK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0" y="2000160"/>
            <a:ext cx="6572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Hırsız ve yankesiciler şöyle çalışı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Dolandırıcılar bir banka yada finans kurumunun internet sitesinin herşeyini tamamen taklit ederek sizi e-posta gönderirl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Sizden banka kart numarası ve şifresi gibi bilgiler isterl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Böyle e-postaları kesinlikle cevaplamayı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4" descr=""/>
          <p:cNvPicPr/>
          <p:nvPr/>
        </p:nvPicPr>
        <p:blipFill>
          <a:blip r:embed="rId1"/>
          <a:stretch/>
        </p:blipFill>
        <p:spPr>
          <a:xfrm>
            <a:off x="6616800" y="2214720"/>
            <a:ext cx="2527200" cy="250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324000" y="1844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Günümüzde her binada elektrik, su ve telefon şebekesi ne kadar zorunlu ise Internet bağlantısı da artık bir zorunluluk haline gelmiştir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Günün her saatinde her türlü bilgi alışverişi ve iletişimi sağlayan olağanüstü bir buluş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24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500" spc="-1" strike="noStrike">
                <a:solidFill>
                  <a:srgbClr val="333399"/>
                </a:solidFill>
                <a:latin typeface="Arial"/>
              </a:rPr>
              <a:t>!</a:t>
            </a:r>
            <a:r>
              <a:rPr b="0" i="1" lang="tr-TR" sz="2500" spc="-1" strike="noStrike">
                <a:solidFill>
                  <a:srgbClr val="333399"/>
                </a:solidFill>
                <a:latin typeface="Arial"/>
              </a:rPr>
              <a:t>`küçük bir çakı bıçağı ile çok güzel iş de yapabilirsiniz, bir insanı da öldürebilirsiniz`</a:t>
            </a: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Object 4"/>
          <p:cNvGraphicFramePr/>
          <p:nvPr/>
        </p:nvGraphicFramePr>
        <p:xfrm>
          <a:off x="4648320" y="2238480"/>
          <a:ext cx="4038480" cy="324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238480"/>
                    <a:ext cx="4038480" cy="32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6084720" cy="45640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"/>
          <p:cNvPicPr/>
          <p:nvPr/>
        </p:nvPicPr>
        <p:blipFill>
          <a:blip r:embed="rId2"/>
          <a:stretch/>
        </p:blipFill>
        <p:spPr>
          <a:xfrm>
            <a:off x="2230560" y="2903400"/>
            <a:ext cx="6913440" cy="395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5" descr="C:\Users\Selim\Desktop\logomuz.jpg"/>
          <p:cNvPicPr/>
          <p:nvPr/>
        </p:nvPicPr>
        <p:blipFill>
          <a:blip r:embed="rId1"/>
          <a:stretch/>
        </p:blipFill>
        <p:spPr>
          <a:xfrm>
            <a:off x="3214800" y="1785960"/>
            <a:ext cx="2928960" cy="2938320"/>
          </a:xfrm>
          <a:prstGeom prst="rect">
            <a:avLst/>
          </a:prstGeom>
          <a:ln w="0">
            <a:noFill/>
          </a:ln>
        </p:spPr>
      </p:pic>
      <p:sp>
        <p:nvSpPr>
          <p:cNvPr id="102" name="6 Metin kutusu"/>
          <p:cNvSpPr/>
          <p:nvPr/>
        </p:nvSpPr>
        <p:spPr>
          <a:xfrm>
            <a:off x="0" y="492912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DOĞANCI İLKÖĞRETİM OKUL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dogancio.meb.k12.t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Selim Baykö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4"/>
          <p:cNvSpPr/>
          <p:nvPr/>
        </p:nvSpPr>
        <p:spPr>
          <a:xfrm>
            <a:off x="285840" y="1857240"/>
            <a:ext cx="6286320" cy="485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300" spc="-1" strike="noStrike">
                <a:solidFill>
                  <a:srgbClr val="000000"/>
                </a:solidFill>
                <a:latin typeface="Arial"/>
              </a:rPr>
              <a:t>İnternetten yararlanmak sizin temel hakkınızdır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300" spc="-1" strike="noStrike">
                <a:solidFill>
                  <a:srgbClr val="000000"/>
                </a:solidFill>
                <a:latin typeface="Arial"/>
              </a:rPr>
              <a:t>İnternet sizi istediğiniz yere götüren uçan halı gibidir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300" spc="-1" strike="noStrike">
                <a:solidFill>
                  <a:srgbClr val="000000"/>
                </a:solidFill>
                <a:latin typeface="Arial"/>
              </a:rPr>
              <a:t>İnternet dünyaya açılan büyük bir özgürlük penceresidir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300" spc="-1" strike="noStrike">
                <a:solidFill>
                  <a:srgbClr val="000000"/>
                </a:solidFill>
                <a:latin typeface="Arial"/>
              </a:rPr>
              <a:t>İnternet hava gibidir. Değeri ancak yokluğunda anlaşılır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300" spc="-1" strike="noStrike">
                <a:solidFill>
                  <a:srgbClr val="000000"/>
                </a:solidFill>
                <a:latin typeface="Arial"/>
              </a:rPr>
              <a:t>O halde çocuklar;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300" spc="-1" strike="noStrike">
                <a:solidFill>
                  <a:srgbClr val="000000"/>
                </a:solidFill>
                <a:latin typeface="Arial"/>
              </a:rPr>
              <a:t>Bilinmeyen yerlere açılan ve sizi davet eden her kapıdan içeri girecek misiniz?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5" descr=""/>
          <p:cNvPicPr/>
          <p:nvPr/>
        </p:nvPicPr>
        <p:blipFill>
          <a:blip r:embed="rId1"/>
          <a:stretch/>
        </p:blipFill>
        <p:spPr>
          <a:xfrm>
            <a:off x="6643800" y="2143080"/>
            <a:ext cx="2500200" cy="2500200"/>
          </a:xfrm>
          <a:prstGeom prst="rect">
            <a:avLst/>
          </a:prstGeom>
          <a:ln w="0">
            <a:noFill/>
          </a:ln>
        </p:spPr>
      </p:pic>
      <p:sp>
        <p:nvSpPr>
          <p:cNvPr id="49" name="5 Metin kutusu"/>
          <p:cNvSpPr/>
          <p:nvPr/>
        </p:nvSpPr>
        <p:spPr>
          <a:xfrm>
            <a:off x="0" y="0"/>
            <a:ext cx="8643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ffffff"/>
                </a:solidFill>
                <a:latin typeface="Arial"/>
              </a:rPr>
              <a:t>GÜVENLİ İNTERNET KULLANIM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4"/>
          <p:cNvSpPr/>
          <p:nvPr/>
        </p:nvSpPr>
        <p:spPr>
          <a:xfrm>
            <a:off x="214200" y="1957320"/>
            <a:ext cx="5786640" cy="48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Tabi ki hayır !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Çünkü sizin seçme özgürlüğünüz vardır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Hangi kapının ardında yolculuk yapacağına,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Hangi pencereden yıldızları seyredeceğinize,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Engin ufaklara doğru hangi halı üzerinde uçacağına,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500" spc="-1" strike="noStrike">
                <a:solidFill>
                  <a:srgbClr val="000000"/>
                </a:solidFill>
                <a:latin typeface="Arial"/>
              </a:rPr>
              <a:t>Siz karar vereceksiniz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"/>
          <p:cNvPicPr/>
          <p:nvPr/>
        </p:nvPicPr>
        <p:blipFill>
          <a:blip r:embed="rId1"/>
          <a:stretch/>
        </p:blipFill>
        <p:spPr>
          <a:xfrm>
            <a:off x="6458040" y="2428920"/>
            <a:ext cx="2685960" cy="2685960"/>
          </a:xfrm>
          <a:prstGeom prst="rect">
            <a:avLst/>
          </a:prstGeom>
          <a:ln w="0">
            <a:noFill/>
          </a:ln>
        </p:spPr>
      </p:pic>
      <p:sp>
        <p:nvSpPr>
          <p:cNvPr id="52" name="5 Metin kutusu"/>
          <p:cNvSpPr/>
          <p:nvPr/>
        </p:nvSpPr>
        <p:spPr>
          <a:xfrm>
            <a:off x="285840" y="214200"/>
            <a:ext cx="8358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ffffff"/>
                </a:solidFill>
                <a:latin typeface="Arial"/>
              </a:rPr>
              <a:t>Siz Karar Vereceksiniz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4"/>
          <p:cNvSpPr/>
          <p:nvPr/>
        </p:nvSpPr>
        <p:spPr>
          <a:xfrm>
            <a:off x="357120" y="2357280"/>
            <a:ext cx="5715000" cy="32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500" spc="-1" strike="noStrike">
                <a:solidFill>
                  <a:srgbClr val="000000"/>
                </a:solidFill>
                <a:latin typeface="Arial"/>
              </a:rPr>
              <a:t>Öyleyse arkadaşlar öncelikle güvenli bir internet yolculuğu için kullanıcı kaptanın dikkat etmesi gereken konuları birlikte hatırlayalım: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" descr=""/>
          <p:cNvPicPr/>
          <p:nvPr/>
        </p:nvPicPr>
        <p:blipFill>
          <a:blip r:embed="rId1"/>
          <a:stretch/>
        </p:blipFill>
        <p:spPr>
          <a:xfrm>
            <a:off x="6286680" y="2857680"/>
            <a:ext cx="21700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tr-TR" sz="4400" spc="-1" strike="noStrike">
                <a:solidFill>
                  <a:srgbClr val="000000"/>
                </a:solidFill>
                <a:latin typeface="Arial"/>
              </a:rPr>
              <a:t>ZAMANI SİZ YÖNETİ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2920" y="2071800"/>
            <a:ext cx="75722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Zaman sizin en değerli varlığınızdı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İnternet ve bilgisayar başında kalacağınız zamanı </a:t>
            </a: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iyi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 ayarlayı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İnternetin zamanınızı çalmasına izin vermey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Dışarıda oyun oynamak, sevdiğiniz sporları yapmak, ailenizle beraber vakit geçirmek, derslerinizi yapmak ve kitap okumak için kendinize zaman ayırı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"/>
          <p:cNvPicPr/>
          <p:nvPr/>
        </p:nvPicPr>
        <p:blipFill>
          <a:blip r:embed="rId1"/>
          <a:stretch/>
        </p:blipFill>
        <p:spPr>
          <a:xfrm>
            <a:off x="7210440" y="2786040"/>
            <a:ext cx="19335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000000"/>
                </a:solidFill>
                <a:latin typeface="Arial Black"/>
              </a:rPr>
              <a:t>VÜCUT SAĞLIĞINIZI KORUYU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13840" y="2071800"/>
            <a:ext cx="7000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Bilgisayar karşısında dik oturun; sırtınızı destekleyecek bir sandalye veya oturma alanı seçin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Bilgisayarınızı aydınlık ortamlarda kullanın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Bilgisayar önünde uzun süreli hareketsiz kalmayın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"/>
          <p:cNvPicPr/>
          <p:nvPr/>
        </p:nvPicPr>
        <p:blipFill>
          <a:blip r:embed="rId1"/>
          <a:stretch/>
        </p:blipFill>
        <p:spPr>
          <a:xfrm>
            <a:off x="7000920" y="3214800"/>
            <a:ext cx="1866960" cy="18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tr-TR" sz="4400" spc="-1" strike="noStrike">
                <a:solidFill>
                  <a:srgbClr val="000000"/>
                </a:solidFill>
                <a:latin typeface="Arial"/>
              </a:rPr>
              <a:t>YERİ SİZ BELİRLEYİ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2117880"/>
            <a:ext cx="5829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Anne ve babanıza karşı açık, şeffaf ve dürüst olun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İnternette gezinmek için eviniz ve ailenizle birlikte oturduğunuz odayı tercih edin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İnterneti başka yerde kullanıyorsanız bu yerin neresi olduğu hakkında ailenizi bilgilendirin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12 yaşında küçükseniz velinizi yanınıza almadan internet kafelere gitmeyin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"/>
          <p:cNvPicPr/>
          <p:nvPr/>
        </p:nvPicPr>
        <p:blipFill>
          <a:blip r:embed="rId1"/>
          <a:stretch/>
        </p:blipFill>
        <p:spPr>
          <a:xfrm>
            <a:off x="6357960" y="2357280"/>
            <a:ext cx="2628720" cy="25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tr-TR" sz="3000" spc="-1" strike="noStrike">
                <a:solidFill>
                  <a:srgbClr val="ffffff"/>
                </a:solidFill>
                <a:latin typeface="Arial"/>
              </a:rPr>
              <a:t>GİRECEĞİNİZ  KAPIYI,  </a:t>
            </a:r>
            <a:br>
              <a:rPr sz="3000"/>
            </a:br>
            <a:r>
              <a:rPr b="1" lang="tr-TR" sz="3000" spc="-1" strike="noStrike">
                <a:solidFill>
                  <a:srgbClr val="ffffff"/>
                </a:solidFill>
                <a:latin typeface="Arial"/>
              </a:rPr>
              <a:t> BAKACAĞINIZ PENCEREYİ  İYİ  SEÇİ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2071800"/>
            <a:ext cx="6757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Ziyaret edeceğiniz internet sitelerini aileniz yada öğretmenlerinizle birlikte siz belirleyin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Size teklif edilen internet sitelerini, ailenize ya da öğretmenlerinize sormadan ziyaret etmeyin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Size teklif edilenlere değil ailenizin ya da öğretmenlerinizin tavsiyelerine önem verin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Ailenizle ya da öğretmenlerinizle birlikte güvenli olduğunu tespit ettiğiniz internet sitelerini bilgisayarınızın “Sık Kullanılanlar” bölümüne ekleyin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"/>
          <p:cNvPicPr/>
          <p:nvPr/>
        </p:nvPicPr>
        <p:blipFill>
          <a:blip r:embed="rId1"/>
          <a:stretch/>
        </p:blipFill>
        <p:spPr>
          <a:xfrm>
            <a:off x="6824520" y="2928960"/>
            <a:ext cx="200052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31T10:46:43Z</dcterms:created>
  <dc:creator>Exper Computer</dc:creator>
  <dc:description/>
  <dc:language>en-US</dc:language>
  <cp:lastModifiedBy>Selim</cp:lastModifiedBy>
  <dcterms:modified xsi:type="dcterms:W3CDTF">2010-04-05T15:14:34Z</dcterms:modified>
  <cp:revision>16</cp:revision>
  <dc:subject/>
  <dc:title>Slayt 1</dc:title>
</cp:coreProperties>
</file>